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8AABC2D4-C719-4C05-AD37-E9CAAD24309A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78392FBD-6869-4F6A-BD6F-1412BF9CF649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2E2-FEE3-4CAD-807D-39AB5689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05C6-04EB-4258-A159-131C8E0B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3D54-674D-4BFB-92FC-3EB5153E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B064-687D-4A17-927D-738BCACE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CA9-BC9B-4C6F-BC9F-20974B5D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4C96-DF22-49CE-B124-542DDBE0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8BB-D5EF-41C9-8BAA-440200F3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E04-E2BD-4E3A-909A-9C0719F6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FA3-143B-4283-AC69-8CFF0088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CF1-F734-4E42-BB72-70B71C51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1A1-1D3F-4044-961E-867A349D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E6E-7CE7-48C4-9002-DC563977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B80D-6ED5-42FC-828A-89838148BEA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omposição Gravimétr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2873880" y="6165000"/>
            <a:ext cx="33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inhão vazio sendo pes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717552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420200" y="6165000"/>
            <a:ext cx="62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tro locais diferentes para serem recolhidas as amost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697392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769760" y="6165000"/>
            <a:ext cx="55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cos sendo rasgados e pesados até alcançar 30K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"/>
          <p:cNvPicPr/>
          <p:nvPr/>
        </p:nvPicPr>
        <p:blipFill>
          <a:blip r:embed="rId2"/>
          <a:stretch/>
        </p:blipFill>
        <p:spPr>
          <a:xfrm>
            <a:off x="1136520" y="1700280"/>
            <a:ext cx="6891480" cy="43164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2949480" y="616500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omogeneização da amos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2"/>
          <a:stretch/>
        </p:blipFill>
        <p:spPr>
          <a:xfrm>
            <a:off x="1042920" y="1633680"/>
            <a:ext cx="6985080" cy="43164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916720" y="6165000"/>
            <a:ext cx="32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mostra que será classifi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"/>
          <p:cNvPicPr/>
          <p:nvPr/>
        </p:nvPicPr>
        <p:blipFill>
          <a:blip r:embed="rId2"/>
          <a:stretch/>
        </p:blipFill>
        <p:spPr>
          <a:xfrm>
            <a:off x="1042920" y="1701720"/>
            <a:ext cx="702144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amostras podem ser classificadas e separadas segundo a NBR 10007 da seguinte 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250920" y="1835280"/>
            <a:ext cx="856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téria orgân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pel, papelão e jor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balagem longa vi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ásticos (Mole e Duro), Pet e Isop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tais ferros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tais não-ferrosos (alumíni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pos, Panos, Couros e Borrach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ilhas e bateri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d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rra e Ped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dei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versos (sendo todo o resto que não conseguimos classifica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14"/>
          <a:stretch/>
        </p:blipFill>
        <p:spPr>
          <a:xfrm>
            <a:off x="5148360" y="2349360"/>
            <a:ext cx="35337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484280"/>
            <a:ext cx="85690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Norma Brasileira NBR 10007 (2004) da ABNT fixa os requisitos exigíveis para amostragem de resíduos sóli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amostras devem seguir as seguintes definições, segundo a referida norm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250920" y="3463920"/>
            <a:ext cx="8569080" cy="30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38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 composta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a soma de parcelas individuais do resíduo a serem estudadas, obtidas em pontos, profundidades e/ou instantes diferentes, através dos processos de amostragem. Estas parcelas devem ser misturadas de forma a se obter uma amostra homogên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 homogênea: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É uma amostra obtida pela melhor mistura possível das alíquotas dos resíduos. Esta mistura deve ser feita de modo que a amostra resultante apresente características semelhantes em todos os seus pontos. Para resíduos no estado sólido, esta homogeneização deve ser feita pelo quarte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 representativa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a parcela do resíduo a ser estudada, obtida através de um processo de amostragem, e que, quando analisada, apresenta as mesmas características e propriedades da massa total do resídu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50920" y="1716120"/>
            <a:ext cx="8569080" cy="47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)  Amostra simples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a parcela do resíduo a ser estudada, obtida através de um processo de amostragem em um único ponto ou profund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)   Amostrador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o equipamento ou aparelho utilizado para coleta de amost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têiner de resíduos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qualquer recipiente portátil no qual o resíduo pode ser transportado, armazenado, tratado ou, de outra forma manuse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ilha ou monte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Qualquer acúmulo de resíduo não contido, que não apresenta escoamento superfi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rteament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o processo de divisão em quatro partes iguais de uma amostra pré-homogeneizada, sendo tomadas duas partes opostas entre si para constituir uma nova amostra e descartadas as partes restantes. As partes não descartadas são misturadas totalmente e o processo de quarteamento é repetido até que se obtenha o volume desej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ambor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um recipiente portátil, cilíndrico, feito de chapa metálica ou material plástico, com capacidade máxima de 250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écnico de amostragem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rofissional técnico responsável pela execução da coleta de amostra (ABNT 200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250920" y="1484280"/>
            <a:ext cx="856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a subseção estabelece as linhas básicas que devem ser observadas, antes de se retirar qualquer amostra, com o objetivo de definir o plano de amostragem (objetivo da amostragem, número e tipo de amostras, amostradores, locais de amostragem, frascos e preservação da amostr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9"/>
          <p:cNvSpPr/>
          <p:nvPr/>
        </p:nvSpPr>
        <p:spPr>
          <a:xfrm>
            <a:off x="324000" y="3400560"/>
            <a:ext cx="8424720" cy="10674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1160" algn="just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Objetivo da amostrag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entury Gothic"/>
              </a:rPr>
              <a:t>O objetivo da amostragem é a coleta de uma quantidade representativa de resíduos, visando determinar suas características quanto à classificação, métodos de tratamento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0"/>
          <p:cNvSpPr/>
          <p:nvPr/>
        </p:nvSpPr>
        <p:spPr>
          <a:xfrm>
            <a:off x="324000" y="4756320"/>
            <a:ext cx="8424720" cy="179748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b) Pré-caracterização de um resídu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entury Gothic"/>
              </a:rPr>
              <a:t>A pré-caracterização de um resíduo é feita através de levantamento do(s) processo(s) que lhe deu ou deram origem. As informações assim obtidas (volume aproximado, estado físico, constituintes principais, temperatura, etc.) permitem a definição do tipo de amostrador mais adequado, dos parâmetros que serão estudados ou analisados, do número de amostras e do seu volume, do tipo de frasco de coleta e do(s) método(s) de preservação que deve(m) ser utilizado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395280" y="2565360"/>
            <a:ext cx="8424720" cy="29163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c) Plano de amostrag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entury Gothic"/>
              </a:rPr>
              <a:t>O plano de amostragem deve ser estabelecido antes de se coletar qualquer amostra, ser consistente com o objetivo da amostragem e com a pré-caracterização do resíduo, e deve incluir: avaliação do local, forma de armazenamento, pontos de amostragem, tipos de amostradores, número de amostras a serem coletadas, seus volumes, seus tipos (simples ou compostos), número e tipo dos frascos de coleta, métodos de preservação e tempo de armazenagem, assim como os tipos de equipamentos de proteção a serem utilizados durante a coleta. A seguir descreve-se os itens do plano de amostragem recomendados pela nor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250920" y="2112840"/>
            <a:ext cx="864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ção do amostrad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a escolha dos materiais da confecção do amostrador, estes devem atender os princípios de não reatividade com o material a ser coletado. Caso o amostrador não seja descartável, o material deve permitir a descontaminação total do equipamento para posterior utiliz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ção do recipiente da amost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aspectos mais importantes a serem considerados na escolha de um frasco de amostragem são compatibilidade do material do frasco e da sua tampa com os resíduos, resistência, volume e facilidade do manuse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cauções na utilização de recipientes e amostrado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tes do uso, os recipientes e amostradores devem ser descontaminados conforme pré-requisitos da tecnologia a ser apli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ós o uso, os recipientes e amostradores utilizados para coleta devem ser descontaminados, ou destinados conforme classe dos resídu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35160" y="1557360"/>
            <a:ext cx="26312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lano de amostr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50920" y="2358000"/>
            <a:ext cx="86421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nto de amostrag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ponto de amostragem é o local onde será coletada a amost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úmero de amost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obtenção da concentração média do resíduo, deve ser coletada uma ou mais amostras compost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obtenção da faixa de variação da concentração do resíduo, devem ser coletadas no mínimo três amostras simpl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resíduos heterogêneos de difícil amostragem e cuja representatividade não puder ser definida com uma única amostra, a escolha do método e número de amostras caberá aos Órgãos Estaduais ou Federais de controle da poluição e preservação ambient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olume de amos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É necessário, durante a fase de planejamento, estabelecer quais as análises e ensaios que serão realizados e qual o volume de amostra é necessário para cada um deles. Muitas vezes é necessário também obter volumes que possibilitem a realização de contraprovas (ABNT 200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35160" y="1557360"/>
            <a:ext cx="26312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lano de amostr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9"/>
          <p:cNvGraphicFramePr/>
          <p:nvPr/>
        </p:nvGraphicFramePr>
        <p:xfrm>
          <a:off x="1042920" y="1628640"/>
          <a:ext cx="705024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628640"/>
                    <a:ext cx="7050240" cy="4319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8" name="Rectangle 10"/>
          <p:cNvSpPr/>
          <p:nvPr/>
        </p:nvSpPr>
        <p:spPr>
          <a:xfrm>
            <a:off x="2170800" y="61650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inhão sendo pesado ao chegar na us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449080" y="6165000"/>
            <a:ext cx="42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inhão descarregando Amostr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1116000" y="1701720"/>
            <a:ext cx="689616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50:24Z</dcterms:modified>
  <cp:revision>227</cp:revision>
  <dc:subject/>
  <dc:title>Slide 1</dc:title>
</cp:coreProperties>
</file>